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D56-EC04-4A36-92D7-F9F19606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0C2-D9C8-4239-A4BD-0AFD73C1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AF2-EAEC-4FF8-ADD3-5DEED32A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1E2-5276-4CCC-A630-16ABF3FA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5CB-E18D-46D7-8A4E-81A6BDE5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745-012B-440C-9B9C-55CB0C3F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19C-2D52-4EEA-8AFC-6208F4A8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312-A925-4250-8791-3DA7F5B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454-8EED-42D4-8AA6-8EEC7651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3A9-BCDB-4D27-8A0F-30BCF0FA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C26-AEFC-4689-B8BE-FE6C26D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3A1-9775-43FA-903D-BCA32DB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990BD5-C748-464E-91F6-8FEA8CF4478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8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image" Target="../media/image10.wmf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152280"/>
            <a:ext cx="8077320" cy="655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fábrica ( indicando lugar conveni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o tipo de transp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ner la mercancía a disposición del comprador en el establecimiento del vended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e término representa la mínima obligación para el vende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gir el modo de transpo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ortar el costo del riesgo inherente al transporte, incluyendo seguimiento en tránsito, reclamaciones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98720" y="1627200"/>
          <a:ext cx="96660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627200"/>
                    <a:ext cx="966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808360" y="1703520"/>
          <a:ext cx="122400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8360" y="170352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710400" y="1627200"/>
          <a:ext cx="12906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10400" y="162720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919760" y="1550880"/>
          <a:ext cx="947520" cy="48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19760" y="1550880"/>
                    <a:ext cx="947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4B2-9F7F-4F1F-BEE0-57CDFF97F501}" type="slidenum">
              <a:t>1</a:t>
            </a:fld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840" y="135000"/>
            <a:ext cx="9168840" cy="6724080"/>
            <a:chOff x="6840" y="135000"/>
            <a:chExt cx="9168840" cy="67240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60480" y="3030480"/>
              <a:ext cx="1447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622160" y="13500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I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56360" y="5300640"/>
              <a:ext cx="256392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2041560" y="336564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"/>
            <a:stretch/>
          </p:blipFill>
          <p:spPr>
            <a:xfrm>
              <a:off x="6918480" y="338616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7756560" y="3102120"/>
              <a:ext cx="137160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9" name=""/>
            <p:cNvGraphicFramePr/>
            <p:nvPr/>
          </p:nvGraphicFramePr>
          <p:xfrm>
            <a:off x="1039680" y="110016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9680" y="110016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"/>
            <p:cNvGraphicFramePr/>
            <p:nvPr/>
          </p:nvGraphicFramePr>
          <p:xfrm>
            <a:off x="1203480" y="2230560"/>
            <a:ext cx="100800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03480" y="2230560"/>
                      <a:ext cx="10080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"/>
            <p:cNvGraphicFramePr/>
            <p:nvPr/>
          </p:nvGraphicFramePr>
          <p:xfrm>
            <a:off x="3125880" y="339876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5880" y="3398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"/>
            <p:cNvGraphicFramePr/>
            <p:nvPr/>
          </p:nvGraphicFramePr>
          <p:xfrm>
            <a:off x="3278160" y="36273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8160" y="3627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6464160" y="3378240"/>
            <a:ext cx="30348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64160" y="337824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2973240" y="3627360"/>
            <a:ext cx="28764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73240" y="3627360"/>
                      <a:ext cx="2876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"/>
            <p:cNvGraphicFramePr/>
            <p:nvPr/>
          </p:nvGraphicFramePr>
          <p:xfrm>
            <a:off x="6616800" y="360684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6800" y="360684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6326280" y="361476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6280" y="3614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75" name="" descr=""/>
            <p:cNvPicPr/>
            <p:nvPr/>
          </p:nvPicPr>
          <p:blipFill>
            <a:blip r:embed="rId21"/>
            <a:stretch/>
          </p:blipFill>
          <p:spPr>
            <a:xfrm>
              <a:off x="3489480" y="3100320"/>
              <a:ext cx="143964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2"/>
            <a:stretch/>
          </p:blipFill>
          <p:spPr>
            <a:xfrm>
              <a:off x="4861080" y="3100320"/>
              <a:ext cx="143964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736640" y="2801880"/>
              <a:ext cx="180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98960" y="5316480"/>
              <a:ext cx="441972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40" y="41371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71080" y="40608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156360" y="458136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5960" y="4173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41760" y="4173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08640" y="4173480"/>
              <a:ext cx="18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08640" y="4173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41320" y="41893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85240" y="4189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6200" y="28782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63120" y="28177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08040" y="3944880"/>
              <a:ext cx="457200" cy="18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3"/>
            <a:stretch/>
          </p:blipFill>
          <p:spPr>
            <a:xfrm>
              <a:off x="822240" y="150660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flipV="1">
              <a:off x="3794040" y="4629240"/>
              <a:ext cx="180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080" y="5316480"/>
              <a:ext cx="350496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4080" y="5316480"/>
              <a:ext cx="366732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la “borda”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87960" y="2376360"/>
              <a:ext cx="180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05720" y="203976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I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07520" y="1049400"/>
              <a:ext cx="23583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er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hasta cruz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 borda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8F0-5B76-40F9-A175-B6134BEC35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848720" cy="62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rte pagado hasta ( indicando el lugar de destino conveni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do tipo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atar y pagar el transporte hasta el lugar conve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portar los riesgos inherentes a la mercancía desde que el Vendedor la entrega al primer transportista, así como cualquier gasto adicional en transito (descarga, daños en tránsito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329520" y="156852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9520" y="156852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631880" y="1541520"/>
          <a:ext cx="9669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541520"/>
                    <a:ext cx="9669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112920" y="1682640"/>
          <a:ext cx="1224000" cy="36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2920" y="1682640"/>
                    <a:ext cx="122400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995720" y="1568520"/>
          <a:ext cx="947880" cy="48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5720" y="1568520"/>
                    <a:ext cx="9478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604-38CE-4A67-A26F-1FC06C9912E0}" type="slidenum">
              <a:t>11</a:t>
            </a:fld>
          </a:p>
        </p:txBody>
      </p:sp>
    </p:spTree>
  </p:cSld>
  <p:transition spd="slow">
    <p:cover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22680" y="76320"/>
            <a:ext cx="9287640" cy="6846480"/>
            <a:chOff x="22680" y="76320"/>
            <a:chExt cx="9287640" cy="68464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76320" y="2971800"/>
              <a:ext cx="1447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63800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084720" y="5258880"/>
              <a:ext cx="2678400" cy="41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2057400" y="330660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3"/>
            <a:stretch/>
          </p:blipFill>
          <p:spPr>
            <a:xfrm>
              <a:off x="6934320" y="332748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7772400" y="3043080"/>
              <a:ext cx="1371600" cy="87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4" name=""/>
            <p:cNvGraphicFramePr/>
            <p:nvPr/>
          </p:nvGraphicFramePr>
          <p:xfrm>
            <a:off x="1055520" y="104148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520" y="104148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1219320" y="2171880"/>
            <a:ext cx="100800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9320" y="2171880"/>
                      <a:ext cx="10080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"/>
            <p:cNvGraphicFramePr/>
            <p:nvPr/>
          </p:nvGraphicFramePr>
          <p:xfrm>
            <a:off x="3141720" y="334008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720" y="3340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"/>
            <p:cNvGraphicFramePr/>
            <p:nvPr/>
          </p:nvGraphicFramePr>
          <p:xfrm>
            <a:off x="3294000" y="356868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4000" y="3568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"/>
            <p:cNvGraphicFramePr/>
            <p:nvPr/>
          </p:nvGraphicFramePr>
          <p:xfrm>
            <a:off x="6480000" y="3319560"/>
            <a:ext cx="30348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80000" y="331956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"/>
            <p:cNvGraphicFramePr/>
            <p:nvPr/>
          </p:nvGraphicFramePr>
          <p:xfrm>
            <a:off x="2989440" y="356868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9440" y="3568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6632640" y="354816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2640" y="354816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"/>
            <p:cNvGraphicFramePr/>
            <p:nvPr/>
          </p:nvGraphicFramePr>
          <p:xfrm>
            <a:off x="6342120" y="35560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2120" y="35560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" descr=""/>
            <p:cNvPicPr/>
            <p:nvPr/>
          </p:nvPicPr>
          <p:blipFill>
            <a:blip r:embed="rId21"/>
            <a:stretch/>
          </p:blipFill>
          <p:spPr>
            <a:xfrm>
              <a:off x="3505320" y="304164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22"/>
            <a:stretch/>
          </p:blipFill>
          <p:spPr>
            <a:xfrm>
              <a:off x="4876920" y="304164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752480" y="2743200"/>
              <a:ext cx="180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14800" y="5257800"/>
              <a:ext cx="441972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seguro hasta punto de destin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680" y="407844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86920" y="40021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156360" y="458136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411480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7600" y="411480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4114800"/>
              <a:ext cx="18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411480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57160" y="413064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01080" y="413064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02040" y="28195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78960" y="27590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23880" y="3886200"/>
              <a:ext cx="457200" cy="1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23"/>
            <a:stretch/>
          </p:blipFill>
          <p:spPr>
            <a:xfrm>
              <a:off x="838080" y="144792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 flipV="1">
              <a:off x="3809880" y="4570200"/>
              <a:ext cx="180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920" y="5257800"/>
              <a:ext cx="350496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4240" y="5257800"/>
              <a:ext cx="330624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hasta pu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el 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3800" y="2317680"/>
              <a:ext cx="180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03920" y="19810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P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6240" y="990720"/>
              <a:ext cx="2584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hasta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n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de carga en el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5A7-0247-42E3-B173-1E5EEB55067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28240" y="76320"/>
            <a:ext cx="792468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e, Seguro Pagado Hasta ( indicando el punto de destino convenid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o tipo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y pagar el transporte de la mercancía hasta el lugar conve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una póliza de seguro de protección de la mercancía en el transporte por una cobertura mínima y por un importe mínimo del 110% de su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691160" y="1415880"/>
          <a:ext cx="947520" cy="4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1160" y="1415880"/>
                    <a:ext cx="9475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6176880" y="1373040"/>
          <a:ext cx="1290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6880" y="137304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732040" y="1463760"/>
          <a:ext cx="122400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2040" y="146376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251000" y="1398600"/>
          <a:ext cx="96660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1000" y="1398600"/>
                    <a:ext cx="966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CD1-7481-4F8A-A2A0-1432999A64A6}" type="slidenum">
              <a:t>13</a:t>
            </a:fld>
          </a:p>
        </p:txBody>
      </p:sp>
    </p:spTree>
  </p:cSld>
  <p:transition spd="slow">
    <p:cover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425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2160" y="131760"/>
            <a:ext cx="9287640" cy="6726960"/>
            <a:chOff x="2160" y="131760"/>
            <a:chExt cx="9287640" cy="67269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55440" y="3027240"/>
              <a:ext cx="1447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617480" y="13176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I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35840" y="5284800"/>
              <a:ext cx="2606400" cy="30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2036880" y="336240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6913440" y="3382920"/>
              <a:ext cx="83844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"/>
            <a:stretch/>
          </p:blipFill>
          <p:spPr>
            <a:xfrm>
              <a:off x="7751880" y="3098880"/>
              <a:ext cx="137160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9" name=""/>
            <p:cNvGraphicFramePr/>
            <p:nvPr/>
          </p:nvGraphicFramePr>
          <p:xfrm>
            <a:off x="1035000" y="109692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5000" y="109692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"/>
            <p:cNvGraphicFramePr/>
            <p:nvPr/>
          </p:nvGraphicFramePr>
          <p:xfrm>
            <a:off x="1198440" y="2227320"/>
            <a:ext cx="100836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98440" y="2227320"/>
                      <a:ext cx="10083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3121200" y="339552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1200" y="33955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"/>
            <p:cNvGraphicFramePr/>
            <p:nvPr/>
          </p:nvGraphicFramePr>
          <p:xfrm>
            <a:off x="3273480" y="362412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3480" y="36241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7" name=""/>
            <p:cNvGraphicFramePr/>
            <p:nvPr/>
          </p:nvGraphicFramePr>
          <p:xfrm>
            <a:off x="6459480" y="3375000"/>
            <a:ext cx="30312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59480" y="33750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"/>
            <p:cNvGraphicFramePr/>
            <p:nvPr/>
          </p:nvGraphicFramePr>
          <p:xfrm>
            <a:off x="2968560" y="362412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68560" y="36241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6611760" y="360360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1760" y="360360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3" name=""/>
            <p:cNvGraphicFramePr/>
            <p:nvPr/>
          </p:nvGraphicFramePr>
          <p:xfrm>
            <a:off x="6321600" y="361152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1600" y="36115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85" name="" descr=""/>
            <p:cNvPicPr/>
            <p:nvPr/>
          </p:nvPicPr>
          <p:blipFill>
            <a:blip r:embed="rId21"/>
            <a:stretch/>
          </p:blipFill>
          <p:spPr>
            <a:xfrm>
              <a:off x="3484440" y="309708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22"/>
            <a:stretch/>
          </p:blipFill>
          <p:spPr>
            <a:xfrm>
              <a:off x="4856040" y="309708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731960" y="2798640"/>
              <a:ext cx="144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48360" y="5437080"/>
              <a:ext cx="399564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60" y="413388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6040" y="405756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135840" y="463716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1280" y="417024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37080" y="417024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03960" y="417024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03960" y="417024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6640" y="418608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0560" y="418608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520" y="287496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440" y="281448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3360" y="3941640"/>
              <a:ext cx="457200" cy="18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23"/>
            <a:stretch/>
          </p:blipFill>
          <p:spPr>
            <a:xfrm>
              <a:off x="817560" y="150336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flipV="1">
              <a:off x="5867280" y="4653000"/>
              <a:ext cx="180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50920" y="5300280"/>
              <a:ext cx="5583240" cy="12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960" y="5313240"/>
              <a:ext cx="307296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el 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83280" y="237348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88080" y="20368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I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05720" y="1046160"/>
              <a:ext cx="2584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de carga en el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ugar convenid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86E-B9CD-4C06-B3E4-62F4849F7C9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848720" cy="629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 sobre Buque ( indicando el puerto de destino conveni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gir y contratar el buque, pagar el flete y soportar todos los riesgos del viaje marítimo hasta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mir los gastos y riesgos a bordo del buque, en el momento y en el punto de descarga en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662280" y="195912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195912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E12-654F-41F6-AE4D-5606E5F00E3C}" type="slidenum">
              <a:t>15</a:t>
            </a:fld>
          </a:p>
        </p:txBody>
      </p:sp>
    </p:spTree>
  </p:cSld>
  <p:transition spd="slow">
    <p:cover dir="r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3600" y="76320"/>
            <a:ext cx="9214560" cy="6479280"/>
            <a:chOff x="3600" y="76320"/>
            <a:chExt cx="9214560" cy="647928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440" y="5256360"/>
              <a:ext cx="26665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18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0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4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0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34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52120" y="274212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2160" y="5256360"/>
              <a:ext cx="327600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Impor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0" y="407700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69280" y="400068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09444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7108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56880" y="411336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23040" y="411336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2304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66520" y="412920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10440" y="412920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76800" y="275796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flipV="1">
              <a:off x="586584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4560" y="5256360"/>
              <a:ext cx="55609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6520" y="5256360"/>
              <a:ext cx="55940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a bordo del buque en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02360" y="23169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12920" y="1980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05360" y="990360"/>
              <a:ext cx="2495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, Maniob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Seguro hasta puerto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stino, y Despacho d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B8F-E125-4C03-9B95-4A5867FEAAA1}" type="slidenum">
              <a:t>16</a:t>
            </a:fld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440" y="75960"/>
            <a:ext cx="8077320" cy="64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 en muelle de destino con los derechos pagados (indicando puerto de destino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r la mercancía a disposición del Comprador sobre el Muelle del puerto de destino convenido, soportando hasta ese momento los gastos y riesgos inherentes a la mis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 - Efectuar el despacho de Ex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ortar todo riesgo de pérdida o daño de la mercancía desde el momento en que el vendedor la ha puesto a  disposición en el Muelle del Puerto de destino conven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0 - Efectuar el despacho de im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890880" y="17542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7542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5AF-2C60-4E43-8C27-A12EFBC8E1E2}" type="slidenum">
              <a:t>17</a:t>
            </a:fld>
          </a:p>
        </p:txBody>
      </p:sp>
    </p:spTree>
  </p:cSld>
  <p:transition spd="slow">
    <p:cover dir="r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00" y="76320"/>
            <a:ext cx="9170280" cy="6845040"/>
            <a:chOff x="3600" y="76320"/>
            <a:chExt cx="9170280" cy="684504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E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0240" y="5256360"/>
              <a:ext cx="19807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7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1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83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752120" y="274248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04280" y="5256360"/>
              <a:ext cx="220896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Impor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0" y="40773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69280" y="40010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08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56880" y="411372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3040" y="411372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2304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666520" y="412956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0440" y="41295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76800" y="27583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 flipV="1">
              <a:off x="6551640" y="4721040"/>
              <a:ext cx="1440" cy="536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560" y="5256360"/>
              <a:ext cx="624672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9920" y="5256360"/>
              <a:ext cx="55940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al costado del buque en puer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13560" y="26661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24480" y="23295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07880" y="990360"/>
              <a:ext cx="2414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erto de destino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de descarg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780240" y="4721040"/>
              <a:ext cx="1440" cy="536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52280" y="76320"/>
            <a:ext cx="7925040" cy="71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 Derechos no Pagados (indicando el lugar de destin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o 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r la mercancía a disposición del Comprador en el lugar convenido en el país import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isfacer los gastos de transporte, incluidas las operaciones de carga y descar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mir por su cuenta los riesgos de pérdida o daño de la mercancía desde que el vendedor la pone a disposición en el lugar conven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importación de las mercanc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31880" y="1474920"/>
          <a:ext cx="96696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474920"/>
                    <a:ext cx="9669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32000" y="1557360"/>
          <a:ext cx="122400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55736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148360" y="1425600"/>
          <a:ext cx="947520" cy="4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425600"/>
                    <a:ext cx="947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710400" y="1425600"/>
          <a:ext cx="129060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0400" y="142560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341-7334-4D6E-80D0-1E440CF7283F}" type="slidenum">
              <a:t>19</a:t>
            </a:fld>
          </a:p>
        </p:txBody>
      </p:sp>
    </p:spTree>
  </p:cSld>
  <p:transition spd="slow">
    <p:cover dir="rd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0" dur="5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5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5400" y="133200"/>
            <a:ext cx="9168120" cy="6724080"/>
            <a:chOff x="5400" y="133200"/>
            <a:chExt cx="9168120" cy="67240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58680" y="3028680"/>
              <a:ext cx="14472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620360" y="13320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EX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3080" y="5238360"/>
              <a:ext cx="769572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039760" y="3363480"/>
              <a:ext cx="83772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6916680" y="3384360"/>
              <a:ext cx="83772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7754760" y="3099960"/>
              <a:ext cx="1371240" cy="87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1037880" y="1098360"/>
            <a:ext cx="138240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7880" y="1098360"/>
                      <a:ext cx="138240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01680" y="2228760"/>
            <a:ext cx="100764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01680" y="2228760"/>
                      <a:ext cx="10076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124080" y="3396960"/>
            <a:ext cx="28692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4080" y="3396960"/>
                      <a:ext cx="2869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276360" y="3625560"/>
            <a:ext cx="28692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6360" y="3625560"/>
                      <a:ext cx="2869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6462360" y="3376440"/>
            <a:ext cx="30312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62360" y="337644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971800" y="3625560"/>
            <a:ext cx="28692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71800" y="3625560"/>
                      <a:ext cx="28692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6615000" y="3605040"/>
            <a:ext cx="3013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5000" y="3605040"/>
                      <a:ext cx="3013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3612960"/>
            <a:ext cx="28692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1296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" name="" descr=""/>
            <p:cNvPicPr/>
            <p:nvPr/>
          </p:nvPicPr>
          <p:blipFill>
            <a:blip r:embed="rId21"/>
            <a:stretch/>
          </p:blipFill>
          <p:spPr>
            <a:xfrm>
              <a:off x="3487680" y="3098520"/>
              <a:ext cx="143928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2"/>
            <a:stretch/>
          </p:blipFill>
          <p:spPr>
            <a:xfrm>
              <a:off x="4859280" y="3098520"/>
              <a:ext cx="143928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734840" y="2800080"/>
              <a:ext cx="144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36760" y="5314680"/>
              <a:ext cx="579816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oger la mercancía en el local del vended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de la mercancía hasta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Exportación 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" y="41353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8920" y="40590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73080" y="4551120"/>
              <a:ext cx="108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54160" y="4171680"/>
              <a:ext cx="685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39960" y="4171680"/>
              <a:ext cx="108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06840" y="41716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06840" y="4171680"/>
              <a:ext cx="6854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39520" y="41875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440" y="41875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84400" y="28764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61320" y="28159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6240" y="3943080"/>
              <a:ext cx="456840" cy="1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3"/>
            <a:stretch/>
          </p:blipFill>
          <p:spPr>
            <a:xfrm>
              <a:off x="820440" y="1504800"/>
              <a:ext cx="1555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216560" y="119988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4480" y="2647800"/>
              <a:ext cx="108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8840" y="231120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868-DCE0-4B5D-A2A8-4A80ECAC02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2160" y="0"/>
            <a:ext cx="9502200" cy="7346160"/>
            <a:chOff x="2160" y="0"/>
            <a:chExt cx="9502200" cy="7346160"/>
          </a:xfrm>
        </p:grpSpPr>
        <p:sp>
          <p:nvSpPr>
            <p:cNvPr id="516" name=""/>
            <p:cNvSpPr/>
            <p:nvPr/>
          </p:nvSpPr>
          <p:spPr>
            <a:xfrm>
              <a:off x="7523280" y="5181480"/>
              <a:ext cx="1981080" cy="21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spach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Impor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1"/>
            <a:stretch/>
          </p:blipFill>
          <p:spPr>
            <a:xfrm>
              <a:off x="55800" y="2895480"/>
              <a:ext cx="1447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1617480" y="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D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23280" y="5181480"/>
              <a:ext cx="121932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2036880" y="323028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6913800" y="325116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7751880" y="2966760"/>
              <a:ext cx="1371600" cy="873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3" name=""/>
            <p:cNvGraphicFramePr/>
            <p:nvPr/>
          </p:nvGraphicFramePr>
          <p:xfrm>
            <a:off x="1035000" y="96516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5000" y="96516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5" name=""/>
            <p:cNvGraphicFramePr/>
            <p:nvPr/>
          </p:nvGraphicFramePr>
          <p:xfrm>
            <a:off x="1198800" y="2095560"/>
            <a:ext cx="100800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98800" y="2095560"/>
                      <a:ext cx="10080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7" name=""/>
            <p:cNvGraphicFramePr/>
            <p:nvPr/>
          </p:nvGraphicFramePr>
          <p:xfrm>
            <a:off x="3121200" y="326376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1200" y="3263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"/>
            <p:cNvGraphicFramePr/>
            <p:nvPr/>
          </p:nvGraphicFramePr>
          <p:xfrm>
            <a:off x="3273480" y="34923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348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"/>
            <p:cNvGraphicFramePr/>
            <p:nvPr/>
          </p:nvGraphicFramePr>
          <p:xfrm>
            <a:off x="6459480" y="3243240"/>
            <a:ext cx="30348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59480" y="324324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3" name=""/>
            <p:cNvGraphicFramePr/>
            <p:nvPr/>
          </p:nvGraphicFramePr>
          <p:xfrm>
            <a:off x="2968920" y="349236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6892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"/>
            <p:cNvGraphicFramePr/>
            <p:nvPr/>
          </p:nvGraphicFramePr>
          <p:xfrm>
            <a:off x="6612120" y="347184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2120" y="347184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7" name=""/>
            <p:cNvGraphicFramePr/>
            <p:nvPr/>
          </p:nvGraphicFramePr>
          <p:xfrm>
            <a:off x="6321600" y="347976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1600" y="34797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39" name="" descr=""/>
            <p:cNvPicPr/>
            <p:nvPr/>
          </p:nvPicPr>
          <p:blipFill>
            <a:blip r:embed="rId21"/>
            <a:stretch/>
          </p:blipFill>
          <p:spPr>
            <a:xfrm>
              <a:off x="3484800" y="296532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2"/>
            <a:stretch/>
          </p:blipFill>
          <p:spPr>
            <a:xfrm>
              <a:off x="4856400" y="2965320"/>
              <a:ext cx="143964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731960" y="2666880"/>
              <a:ext cx="180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60" y="40021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66400" y="39258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523280" y="4493880"/>
              <a:ext cx="144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51280" y="403848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37080" y="4038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03960" y="4038480"/>
              <a:ext cx="180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03960" y="4038480"/>
              <a:ext cx="685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36640" y="40543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80560" y="4054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1520" y="27432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58440" y="26827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03360" y="3809880"/>
              <a:ext cx="457200" cy="144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3"/>
            <a:stretch/>
          </p:blipFill>
          <p:spPr>
            <a:xfrm>
              <a:off x="817560" y="137160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flipV="1">
              <a:off x="7294680" y="4493880"/>
              <a:ext cx="144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4400" y="5181480"/>
              <a:ext cx="7010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54160" y="5181480"/>
              <a:ext cx="60386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n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después de cruzar la frontera sin Despacho de Im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800" y="2590560"/>
              <a:ext cx="144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34440" y="22539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D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3320" y="914400"/>
              <a:ext cx="2360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761760" y="152280"/>
            <a:ext cx="7924680" cy="64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 en destino con derecho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indicando el lugar de destino conveni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 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gar la mercancía, por su cuenta,  a disposición del Comprador, en el lugar de destino convenido en el país del Importador, incluidas las maniobras de descarg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ectuar el despacho de exportación e im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a la máxima obligación para el vende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portar los riesgos y gastos que ocurran después de recibida la mercancía en el lugar conven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862680" y="183024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2680" y="183024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224320" y="1873080"/>
          <a:ext cx="94788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4320" y="1873080"/>
                    <a:ext cx="94788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3189240" y="1920960"/>
          <a:ext cx="122400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89240" y="1920960"/>
                    <a:ext cx="122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555920" y="1855800"/>
          <a:ext cx="96660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55920" y="1855800"/>
                    <a:ext cx="966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4A9-8431-4E80-8479-970FA492FF25}" type="slidenum">
              <a:t>21</a:t>
            </a:fld>
          </a:p>
        </p:txBody>
      </p:sp>
    </p:spTree>
  </p:cSld>
  <p:transition spd="slow">
    <p:cover dir="rd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5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5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3600" y="76320"/>
            <a:ext cx="9170280" cy="6479280"/>
            <a:chOff x="3600" y="76320"/>
            <a:chExt cx="9170280" cy="6479280"/>
          </a:xfrm>
        </p:grpSpPr>
        <p:pic>
          <p:nvPicPr>
            <p:cNvPr id="571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DD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6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8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92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752120" y="274212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00" y="407700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69280" y="400068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7108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6880" y="411336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23040" y="411336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23040" y="411336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66520" y="412920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10440" y="412920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76800" y="275796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 flipV="1">
              <a:off x="838008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120" y="5256360"/>
              <a:ext cx="777060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119600" y="5256360"/>
              <a:ext cx="679788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punto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punto convenido en país de destino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 y Despacho de Import. en país 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42000" y="26661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53280" y="23295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D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6440" y="990360"/>
              <a:ext cx="2360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Segur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asta punto de destino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spacho de Expor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Im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0A6-E771-488D-829B-5639D3812821}" type="slidenum">
              <a:t>22</a:t>
            </a:fld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4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bre al costado del Barco (indicando puerto de embarque convenid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tregar la mercancía en el lugar designado por el comprador en el puerto convenido. (Al costado del buqu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fectuar el despacho de exportación de la mercancí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ligaciones del Compra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gir Empresa Naviera y dar nombre del Buque al Vende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gar flete y  soportar el riesgo de la mercancía desde que el vendedor la entrega al costado del Buqu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btener licencias para import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fectuar el despacho de importación de la mercan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90880" y="183024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83024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DB5-5D95-4B6A-B48B-4B568D81150A}" type="slidenum">
              <a:t>3</a:t>
            </a:fld>
          </a:p>
        </p:txBody>
      </p:sp>
    </p:spTree>
  </p:cSld>
  <p:transition spd="slow">
    <p:cover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600" y="76320"/>
            <a:ext cx="9443160" cy="6722640"/>
            <a:chOff x="3600" y="76320"/>
            <a:chExt cx="9443160" cy="6722640"/>
          </a:xfrm>
        </p:grpSpPr>
        <p:sp>
          <p:nvSpPr>
            <p:cNvPr id="106" name=""/>
            <p:cNvSpPr/>
            <p:nvPr/>
          </p:nvSpPr>
          <p:spPr>
            <a:xfrm>
              <a:off x="3428280" y="5256360"/>
              <a:ext cx="601848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ubir la mercancía a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5960" y="297108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F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8280" y="5256360"/>
              <a:ext cx="533304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88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76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36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3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3141000" y="333936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36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6478560" y="331884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84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9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92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92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752120" y="274248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" y="40773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9640" y="40010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428280" y="4569480"/>
              <a:ext cx="108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08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6880" y="411372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3040" y="411372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304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6520" y="412956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0440" y="41295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0600" y="28188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6800" y="27583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56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704640" y="1142640"/>
              <a:ext cx="2462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y  Segur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costado del buque 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Despacho d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199680" y="4569480"/>
              <a:ext cx="108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560" y="5256360"/>
              <a:ext cx="289476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3280" y="5256360"/>
              <a:ext cx="302292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mercancía 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stado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5600" y="2590200"/>
              <a:ext cx="1080" cy="609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1400" y="22536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7E7-E08E-45C6-88E0-4685B106F07F}" type="slidenum">
              <a:t>4</a:t>
            </a:fld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e a Bordo ( indicando el puerto de embarque conveni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egar la mercancía a bordo del buque elegido por el Comprador en el puerto de embarque conve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ar y reservar el Buq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r con los gastos y riesgos inherentes a la  mercancía desde que traspasa la borda del bu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67200" y="22114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22114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E9A-D88C-4750-B150-3B6F202D23C7}" type="slidenum">
              <a:t>5</a:t>
            </a:fld>
          </a:p>
        </p:txBody>
      </p:sp>
    </p:spTree>
  </p:cSld>
  <p:transition spd="slow">
    <p:cover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600" y="76320"/>
            <a:ext cx="9170280" cy="6845040"/>
            <a:chOff x="3600" y="76320"/>
            <a:chExt cx="9170280" cy="684504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5960" y="2970720"/>
              <a:ext cx="1447200" cy="90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36920" y="7632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FO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7400" y="5256360"/>
              <a:ext cx="472356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056680" y="330552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6932880" y="3326400"/>
              <a:ext cx="83772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7770600" y="3042000"/>
              <a:ext cx="137124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1" name=""/>
            <p:cNvGraphicFramePr/>
            <p:nvPr/>
          </p:nvGraphicFramePr>
          <p:xfrm>
            <a:off x="1055160" y="1041120"/>
            <a:ext cx="1382400" cy="406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55160" y="1041120"/>
                      <a:ext cx="13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218960" y="2171160"/>
            <a:ext cx="1007640" cy="52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18960" y="2171160"/>
                      <a:ext cx="1007640" cy="52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3141000" y="333900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000" y="33390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293280" y="356760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328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6478560" y="3318480"/>
            <a:ext cx="30312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78560" y="3318480"/>
                      <a:ext cx="3031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2988720" y="3567600"/>
            <a:ext cx="28692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8720" y="356760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6631200" y="3547080"/>
            <a:ext cx="301320" cy="41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31200" y="3547080"/>
                      <a:ext cx="3013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6340680" y="3555000"/>
            <a:ext cx="286920" cy="39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40680" y="3555000"/>
                      <a:ext cx="28692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7" name="" descr=""/>
            <p:cNvPicPr/>
            <p:nvPr/>
          </p:nvPicPr>
          <p:blipFill>
            <a:blip r:embed="rId21"/>
            <a:stretch/>
          </p:blipFill>
          <p:spPr>
            <a:xfrm>
              <a:off x="350460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2"/>
            <a:stretch/>
          </p:blipFill>
          <p:spPr>
            <a:xfrm>
              <a:off x="4875840" y="3040560"/>
              <a:ext cx="143928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52120" y="2742480"/>
              <a:ext cx="1440" cy="114264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3720" y="5256360"/>
              <a:ext cx="441864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y Seguro hasta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0" y="407736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69280" y="400104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03740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08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6880" y="4113720"/>
              <a:ext cx="108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3040" y="4113720"/>
              <a:ext cx="14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3040" y="4113720"/>
              <a:ext cx="68544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6520" y="412956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0440" y="412956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00600" y="281844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76800" y="27583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3520" y="3885120"/>
              <a:ext cx="456840" cy="10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3"/>
            <a:stretch/>
          </p:blipFill>
          <p:spPr>
            <a:xfrm>
              <a:off x="837720" y="1447200"/>
              <a:ext cx="1555560" cy="5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706440" y="1142640"/>
              <a:ext cx="2360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, Seguros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hasta cruz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 borda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808800" y="4569120"/>
              <a:ext cx="1440" cy="688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560" y="5256360"/>
              <a:ext cx="350424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2200" y="5256360"/>
              <a:ext cx="3196440" cy="12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mercancía cruzando l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“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orda”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16800" y="231696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5120" y="1980360"/>
              <a:ext cx="60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61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&amp;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y Flete ( indicando puerto de destino conveni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el buque, siendo por su cuenta el flete y la carga hasta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portar cualquier gasto adicional y riesgo de pérdida o deterioro y su reclamación y seguimiento desde que la mercancía traspasa la borda del buque en el puerto de embarqu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62280" y="20350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0350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593-9D27-4783-8329-E5AA830BC302}" type="slidenum">
              <a:t>7</a:t>
            </a:fld>
          </a:p>
        </p:txBody>
      </p:sp>
    </p:spTree>
  </p:cSld>
  <p:transition spd="slow">
    <p:cover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2160" y="0"/>
            <a:ext cx="9168480" cy="6846480"/>
            <a:chOff x="2160" y="0"/>
            <a:chExt cx="9168480" cy="68464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5440" y="2895480"/>
              <a:ext cx="1447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617480" y="0"/>
              <a:ext cx="572508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C&amp;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FERENCIA DE LA RESPONSABILID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19840" y="5153040"/>
              <a:ext cx="2822400" cy="30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2036880" y="3230640"/>
              <a:ext cx="8380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6913440" y="3251160"/>
              <a:ext cx="83844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7751880" y="2967120"/>
              <a:ext cx="1371600" cy="873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0" name=""/>
            <p:cNvGraphicFramePr/>
            <p:nvPr/>
          </p:nvGraphicFramePr>
          <p:xfrm>
            <a:off x="1035000" y="965160"/>
            <a:ext cx="1382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35000" y="965160"/>
                      <a:ext cx="1382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1198440" y="2095560"/>
            <a:ext cx="1008360" cy="52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98440" y="2095560"/>
                      <a:ext cx="10083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3121200" y="326376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21200" y="3263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3273480" y="34923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348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6459480" y="3243240"/>
            <a:ext cx="303120" cy="41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459480" y="324324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2968560" y="3492360"/>
            <a:ext cx="287280" cy="393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68560" y="34923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6611760" y="347184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11760" y="347184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6321600" y="347976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1600" y="34797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6" name="" descr=""/>
            <p:cNvPicPr/>
            <p:nvPr/>
          </p:nvPicPr>
          <p:blipFill>
            <a:blip r:embed="rId21"/>
            <a:stretch/>
          </p:blipFill>
          <p:spPr>
            <a:xfrm>
              <a:off x="3484440" y="296532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2"/>
            <a:stretch/>
          </p:blipFill>
          <p:spPr>
            <a:xfrm>
              <a:off x="4856040" y="2965320"/>
              <a:ext cx="14400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31960" y="2666880"/>
              <a:ext cx="1440" cy="11430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94280" y="5181480"/>
              <a:ext cx="502920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y Responsabilidad del 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seguro hasta puerto de destino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el despacho de Impor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60" y="4002120"/>
              <a:ext cx="15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6040" y="39258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ra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919840" y="4505400"/>
              <a:ext cx="1440" cy="689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4038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7080" y="4038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03960" y="4038480"/>
              <a:ext cx="144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03960" y="4038480"/>
              <a:ext cx="68580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6640" y="4054320"/>
              <a:ext cx="100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bar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0560" y="405432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uerto 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sti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81520" y="274320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8440" y="2682720"/>
              <a:ext cx="79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ua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or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03360" y="3809880"/>
              <a:ext cx="457200" cy="18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3"/>
            <a:stretch/>
          </p:blipFill>
          <p:spPr>
            <a:xfrm>
              <a:off x="817560" y="1371600"/>
              <a:ext cx="155592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V="1">
              <a:off x="5724360" y="4508280"/>
              <a:ext cx="1800" cy="68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0920" y="5157720"/>
              <a:ext cx="547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9400" y="5181480"/>
              <a:ext cx="3373200" cy="15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iesgo del Vended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ratar Transporte hasta puer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 desti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tregar en la “borda”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fectuar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83280" y="2241720"/>
              <a:ext cx="144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83400" y="1905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F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7160" y="914400"/>
              <a:ext cx="2302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recio Mercancí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luye Fletes hasta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uerto de destino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obras hasta cruz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 borda del bu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y Despacho de Expor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CBB-9D7A-40FB-BF1F-F621728441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o, Seguro y Flete( indicando el puerto de destino convenid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o de Transport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í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Vendedor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tar el buque y pagar el flete y la carga hasta el puerto de dest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uar el despacho de exportación de la mercan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bir una póliza de seguro de protección de la mercancía en el transporte por cobertura mínima y por un importe mínimo del 110% de su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 del Comprador 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nque el Vendedor contrata y paga el seguro, la mercancía viaja a riesgo del Comprador, quien es el beneficiario de la póliza por designación directa o por el carácter transferible de la mis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67200" y="1349280"/>
          <a:ext cx="12906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0" y="1349280"/>
                    <a:ext cx="1290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E32-77FA-4DE2-BFB2-AC195F91EF89}" type="slidenum">
              <a:t>9</a:t>
            </a:fld>
          </a:p>
        </p:txBody>
      </p:sp>
    </p:spTree>
  </p:cSld>
  <p:transition spd="slow">
    <p:cover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encia de Sistemas y Procedim</dc:creator>
  <dc:description/>
  <dc:language>en-US</dc:language>
  <cp:lastModifiedBy>ANA ESQUINAS FERNANDEZ</cp:lastModifiedBy>
  <dcterms:modified xsi:type="dcterms:W3CDTF">2009-11-08T18:03:36Z</dcterms:modified>
  <cp:revision>6</cp:revision>
  <dc:subject/>
  <dc:title>INCOTERMS</dc:title>
</cp:coreProperties>
</file>